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9.gif" ContentType="image/gif"/>
  <Override PartName="/ppt/media/image8.png" ContentType="image/png"/>
  <Override PartName="/ppt/media/image19.png" ContentType="image/png"/>
  <Override PartName="/ppt/media/image16.jpeg" ContentType="image/jpe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.gif" ContentType="image/gif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52D-1C9D-46BD-90CA-996CF402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AAE-D0AE-422F-8AE2-9DAC4060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806-BDDC-4EB1-AF3C-AFC42FE4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727-5551-487E-A101-095FC982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4ECC-1596-4FA1-8155-4933BEBF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DA51-13A5-47F6-B56A-4CA3ECFB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403F-47D1-45A3-B710-566100FD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FEC7-D9A9-4E58-AD5F-B2B2CEBB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97EF-60D1-4376-98AD-39D6B618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CB62-7AA4-43F3-9F90-BF4BF079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60CF-58B2-4F0E-BBF9-8057C602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206-B034-4F25-B455-55FB1C64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6D1E-DBF5-429B-BE34-3E1D2372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6708-4D7E-488D-BAF3-E943A901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1058-6A29-45DA-A435-15BE7039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38D7-0A3E-4E8C-93FF-D6B6893A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14B4-9B9C-4EC9-AFEA-7D85B4BD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47D-51C9-418E-9294-A6F0AB11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3FB-B79F-4E47-90DB-28362F4A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1BC-F00A-4176-B833-F64909D9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485-B95E-405F-9083-8B570B47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1F7-4D56-4C51-ABDA-8F96E7D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4D6-E9CD-4DFF-A1D9-B821EE5A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7A5-EDD9-4C6A-B747-CB4CCFAD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A32C-9F3A-4E6D-9442-E20469004AF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01CE-23B5-4DBC-8D47-E6DAB67E734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gif"/><Relationship Id="rId3" Type="http://schemas.openxmlformats.org/officeDocument/2006/relationships/image" Target="../media/image9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8380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华文新魏"/>
                <a:ea typeface="华文新魏"/>
              </a:rPr>
              <a:t>Wri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2819520"/>
            <a:ext cx="5562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71785" dir="2700000" blurRad="0" rotWithShape="0">
                    <a:srgbClr val="990000"/>
                  </a:outerShdw>
                </a:effectLst>
                <a:latin typeface="华文琥珀"/>
              </a:rPr>
              <a:t>English Writing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71785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71785" dir="2700000" blurRad="0" rotWithShape="0">
                    <a:srgbClr val="990000"/>
                  </a:outerShdw>
                </a:effectLst>
                <a:latin typeface="华文琥珀"/>
              </a:rPr>
              <a:t>英语书面表达训练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71785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72200" y="914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-609480" y="5715000"/>
            <a:ext cx="380880" cy="2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43248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905120"/>
            <a:ext cx="568332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4. Form a pass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2971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arran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4038480" cy="2570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7160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42670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logical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8400" y="380880"/>
            <a:ext cx="70056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2565360"/>
            <a:ext cx="4248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5.Check ag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4005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华文行楷"/>
              </a:rPr>
              <a:t>Correct your mistak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609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Correc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6019560" cy="433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23623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ttentions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276720"/>
            <a:ext cx="304560" cy="2590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971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reement (Subject and predicate, ten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91644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ackground situation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me,place,condi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8006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gical re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5166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ning &amp; 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56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2590920"/>
            <a:ext cx="60195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6. Make a clear cop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114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黑体"/>
              </a:rPr>
              <a:t>Handwriting and arran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66680" y="990720"/>
            <a:ext cx="70866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并列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, as well as, als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递进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sides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 addition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reover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what’s mor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转折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, yet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however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although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therwis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or, in spite of, despite, instead of, in the end,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what’s wors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时间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, then, next, finally, …     firstly,secondly,finally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比较对比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ke, unlike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n the contrary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on the other han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01000" y="60199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0"/>
            <a:ext cx="51055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logical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181480"/>
            <a:ext cx="6782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总        结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a word, in general, in short, above all, after all, generally speak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ow to deal with the writing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219320"/>
            <a:ext cx="254160" cy="5029200"/>
          </a:xfrm>
          <a:custGeom>
            <a:avLst/>
            <a:gdLst>
              <a:gd name="textAreaLeft" fmla="*/ 162360 w 254160"/>
              <a:gd name="textAreaRight" fmla="*/ 254520 w 25416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1066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nalyze the t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523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yle, person, tense, key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1839960"/>
            <a:ext cx="62485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ords and phrase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se one or two words to express the key 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2790720"/>
            <a:ext cx="64008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ake sentence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se the words or phrases to make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581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Form the passag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51055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ttentions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876920"/>
            <a:ext cx="262080" cy="1371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78476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greement (Subject and predicate, ten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516564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ackground situation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ime,place,condi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5546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ogical re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592776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ning &amp; e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3578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heck ag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743200"/>
            <a:ext cx="1447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838188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05120" y="6172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ke a clear 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4038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rangement and logical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effe"/>
            </a:gs>
            <a:gs pos="50000">
              <a:srgbClr val="ffe1ff"/>
            </a:gs>
            <a:gs pos="100000">
              <a:srgbClr val="feef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543800" cy="5029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221760" y="22860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0093"/>
                </a:solidFill>
                <a:latin typeface="Monotype Corsiva"/>
              </a:rPr>
              <a:t>Home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32004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rite an article and use these writing skil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019920" y="472428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243" name="040311084720031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19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438280" y="762120"/>
            <a:ext cx="6324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HOMEWORK</a:t>
            </a:r>
            <a:endParaRPr b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523880"/>
            <a:ext cx="6782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请你根据以下表格内容提示，用英语写一篇短文，谈谈拥有私家车的利与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2514600"/>
          <a:ext cx="5790960" cy="2133720"/>
        </p:xfrm>
        <a:graphic>
          <a:graphicData uri="http://schemas.openxmlformats.org/drawingml/2006/table">
            <a:tbl>
              <a:tblPr/>
              <a:tblGrid>
                <a:gridCol w="2819160"/>
                <a:gridCol w="297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时难找车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节省时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费用昂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给你一种独立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危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467480" cy="4545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905120" y="533520"/>
            <a:ext cx="6019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Arial Black"/>
              </a:rPr>
              <a:t>Thank you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Arial Black"/>
              </a:rPr>
              <a:t>！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cec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905120" y="5410080"/>
            <a:ext cx="6019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华文隶书"/>
              </a:rPr>
              <a:t>请不吝赐教！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cecff"/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-6858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1981080"/>
            <a:ext cx="762012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ntroduction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W1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Body: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tailed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Conclusion: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onclude the whol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ssage or yo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opin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914400"/>
            <a:ext cx="2666880" cy="6426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Structu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7400" y="2209680"/>
            <a:ext cx="4876920" cy="426744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cap="sq"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990720"/>
            <a:ext cx="6553080" cy="10238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Six steps in writ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693880" y="2257200"/>
            <a:ext cx="3684600" cy="4095720"/>
            <a:chOff x="2693880" y="2257200"/>
            <a:chExt cx="3684600" cy="4095720"/>
          </a:xfrm>
        </p:grpSpPr>
        <p:sp>
          <p:nvSpPr>
            <p:cNvPr id="103" name="_s134165"/>
            <p:cNvSpPr/>
            <p:nvPr/>
          </p:nvSpPr>
          <p:spPr>
            <a:xfrm flipH="1" flipV="1">
              <a:off x="3647520" y="3790440"/>
              <a:ext cx="446040" cy="2588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134164"/>
            <p:cNvSpPr/>
            <p:nvPr/>
          </p:nvSpPr>
          <p:spPr>
            <a:xfrm>
              <a:off x="2693880" y="302400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Arial Black"/>
                  <a:ea typeface="华文琥珀"/>
                </a:rPr>
                <a:t>抄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134163"/>
            <p:cNvSpPr/>
            <p:nvPr/>
          </p:nvSpPr>
          <p:spPr>
            <a:xfrm flipH="1">
              <a:off x="3647520" y="4559040"/>
              <a:ext cx="446040" cy="257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34162"/>
            <p:cNvSpPr/>
            <p:nvPr/>
          </p:nvSpPr>
          <p:spPr>
            <a:xfrm>
              <a:off x="2693880" y="4560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2" action="ppaction://hlinksldjump"/>
                </a:rPr>
                <a:t>改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34161"/>
            <p:cNvSpPr/>
            <p:nvPr/>
          </p:nvSpPr>
          <p:spPr>
            <a:xfrm>
              <a:off x="4535280" y="4813200"/>
              <a:ext cx="0" cy="5158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_s134160"/>
            <p:cNvSpPr/>
            <p:nvPr/>
          </p:nvSpPr>
          <p:spPr>
            <a:xfrm>
              <a:off x="4024080" y="532908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3" action="ppaction://hlinksldjump"/>
                </a:rPr>
                <a:t>合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34158"/>
            <p:cNvSpPr/>
            <p:nvPr/>
          </p:nvSpPr>
          <p:spPr>
            <a:xfrm>
              <a:off x="4976640" y="4559040"/>
              <a:ext cx="446040" cy="257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34157"/>
            <p:cNvSpPr/>
            <p:nvPr/>
          </p:nvSpPr>
          <p:spPr>
            <a:xfrm>
              <a:off x="5354640" y="4560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4" action="ppaction://hlinksldjump"/>
                </a:rPr>
                <a:t>扩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34156"/>
            <p:cNvSpPr/>
            <p:nvPr/>
          </p:nvSpPr>
          <p:spPr>
            <a:xfrm flipV="1">
              <a:off x="4976640" y="3791880"/>
              <a:ext cx="446040" cy="257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34155"/>
            <p:cNvSpPr/>
            <p:nvPr/>
          </p:nvSpPr>
          <p:spPr>
            <a:xfrm>
              <a:off x="5354640" y="3025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5" action="ppaction://hlinksldjump"/>
                </a:rPr>
                <a:t>抓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134154"/>
            <p:cNvSpPr/>
            <p:nvPr/>
          </p:nvSpPr>
          <p:spPr>
            <a:xfrm flipV="1">
              <a:off x="4535280" y="3279240"/>
              <a:ext cx="0" cy="51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_s134153"/>
            <p:cNvSpPr/>
            <p:nvPr/>
          </p:nvSpPr>
          <p:spPr>
            <a:xfrm>
              <a:off x="4024080" y="225720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6" action="ppaction://hlinksldjump"/>
                </a:rPr>
                <a:t>审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134152"/>
            <p:cNvSpPr/>
            <p:nvPr/>
          </p:nvSpPr>
          <p:spPr>
            <a:xfrm>
              <a:off x="4024080" y="379404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 Black"/>
                  <a:ea typeface="华文行楷"/>
                </a:rPr>
                <a:t>书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 Black"/>
                  <a:ea typeface="华文行楷"/>
                </a:rPr>
                <a:t>表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985080" y="4572000"/>
            <a:ext cx="215892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635652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133720"/>
            <a:ext cx="59882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1. Analyse  the top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89548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华文行楷"/>
              </a:rPr>
              <a:t>确定基本要素</a:t>
            </a: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华文行楷"/>
              </a:rPr>
              <a:t>:5</a:t>
            </a:r>
            <a:r>
              <a:rPr b="0" lang="zh-CN" sz="4400" spc="-1" strike="noStrike">
                <a:solidFill>
                  <a:srgbClr val="cc0099"/>
                </a:solidFill>
                <a:latin typeface="Arial Black"/>
              </a:rPr>
              <a:t>W</a:t>
            </a:r>
            <a:r>
              <a:rPr b="0" lang="zh-CN" sz="4400" spc="-1" strike="noStrike">
                <a:solidFill>
                  <a:srgbClr val="000066"/>
                </a:solidFill>
                <a:latin typeface="Arial Black"/>
              </a:rPr>
              <a:t>1</a:t>
            </a:r>
            <a:r>
              <a:rPr b="0" lang="zh-CN" sz="4400" spc="-1" strike="noStrike">
                <a:solidFill>
                  <a:srgbClr val="cc0099"/>
                </a:solidFill>
                <a:latin typeface="Arial Black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666880"/>
            <a:ext cx="518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5451480"/>
            <a:ext cx="892080" cy="892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3733920"/>
            <a:ext cx="7162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5W: what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when where w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1H:  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58476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678168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2. Grasp the key po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1952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  <a:ea typeface="华文行楷"/>
              </a:rPr>
              <a:t>确定主要行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73392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行楷"/>
              </a:rPr>
              <a:t>What happened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2570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28800" y="4724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  <a:ea typeface="华文行楷"/>
              </a:rPr>
              <a:t>Key words and phr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00560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133720"/>
            <a:ext cx="58611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  <a:ea typeface="黑体"/>
              </a:rPr>
              <a:t>3. Make sente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03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Gramm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3429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402264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Spel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5013360"/>
            <a:ext cx="63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Punctuation mark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黑体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黑体"/>
              </a:rPr>
              <a:t>标点符号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53352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班的同学进行了一场有关英语学习的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论的题目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英语要不要从儿童时期开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根据下表中提示写一篇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讨论的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520" y="2743200"/>
          <a:ext cx="8076960" cy="347832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另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从儿童时期开始学习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记忆力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以记注很多单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为以后的英语学习打下坚实的基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应从儿童时期开始英语学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既要学汉语拼音又要学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易混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影响汉语学习和今后的英语学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讨论未取得一致意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5800" y="304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29400" y="5867280"/>
            <a:ext cx="22096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380880"/>
            <a:ext cx="358128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914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85800"/>
            <a:ext cx="2895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equir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981080"/>
            <a:ext cx="8077320" cy="3980520"/>
          </a:xfrm>
          <a:prstGeom prst="rect">
            <a:avLst/>
          </a:prstGeom>
          <a:solidFill>
            <a:srgbClr val="00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词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左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考词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基础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und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汉语拼音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inese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piny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3352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班的同学进行了一场有关英语学习的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论的题目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英语要不要从儿童时期开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根据下表中提示写一篇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讨论的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3520" y="2743200"/>
          <a:ext cx="8076960" cy="355140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另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9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从儿童时期开始学习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记忆力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记注很多单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为以后的英语学习打下坚实的基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应从儿童时期开始英语学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既要学汉语拼音又要学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易混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影响汉语学习和今后的英语学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讨论未取得一致意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85800" y="304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29400" y="5867280"/>
            <a:ext cx="2209680" cy="99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27200" y="1638360"/>
            <a:ext cx="47246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2057400"/>
            <a:ext cx="49528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257800"/>
            <a:ext cx="6858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334120"/>
            <a:ext cx="6098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657600"/>
            <a:ext cx="7617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4419720"/>
            <a:ext cx="1143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657600"/>
            <a:ext cx="4572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3520" y="6248520"/>
            <a:ext cx="2286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952880"/>
            <a:ext cx="17524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715000"/>
            <a:ext cx="16002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800600"/>
            <a:ext cx="6094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4800600"/>
            <a:ext cx="76212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762120"/>
            <a:ext cx="1752480" cy="380880"/>
          </a:xfrm>
          <a:prstGeom prst="wedgeRoundRectCallout">
            <a:avLst>
              <a:gd name="adj1" fmla="val -138856"/>
              <a:gd name="adj2" fmla="val 1762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590920"/>
            <a:ext cx="2057400" cy="380880"/>
          </a:xfrm>
          <a:prstGeom prst="wedgeRoundRectCallout">
            <a:avLst>
              <a:gd name="adj1" fmla="val 49384"/>
              <a:gd name="adj2" fmla="val 1387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657600"/>
            <a:ext cx="2057400" cy="380880"/>
          </a:xfrm>
          <a:prstGeom prst="wedgeRoundRectCallout">
            <a:avLst>
              <a:gd name="adj1" fmla="val -82638"/>
              <a:gd name="adj2" fmla="val 65416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867280"/>
            <a:ext cx="2057400" cy="381240"/>
          </a:xfrm>
          <a:prstGeom prst="wedgeRoundRectCallout">
            <a:avLst>
              <a:gd name="adj1" fmla="val 74384"/>
              <a:gd name="adj2" fmla="val -145416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2057400" cy="381240"/>
          </a:xfrm>
          <a:prstGeom prst="wedgeRoundRectCallout">
            <a:avLst>
              <a:gd name="adj1" fmla="val 45680"/>
              <a:gd name="adj2" fmla="val 192499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657600"/>
            <a:ext cx="2057400" cy="380880"/>
          </a:xfrm>
          <a:prstGeom prst="wedgeRoundRectCallout">
            <a:avLst>
              <a:gd name="adj1" fmla="val -118902"/>
              <a:gd name="adj2" fmla="val 78333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5410080"/>
            <a:ext cx="2057400" cy="381240"/>
          </a:xfrm>
          <a:prstGeom prst="wedgeRoundRectCallout">
            <a:avLst>
              <a:gd name="adj1" fmla="val -69986"/>
              <a:gd name="adj2" fmla="val -912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6470640"/>
            <a:ext cx="2057400" cy="380880"/>
          </a:xfrm>
          <a:prstGeom prst="wedgeRoundRectCallout">
            <a:avLst>
              <a:gd name="adj1" fmla="val -70986"/>
              <a:gd name="adj2" fmla="val -118333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08:43:56Z</dcterms:created>
  <dc:creator>gx</dc:creator>
  <dc:description/>
  <dc:language>en-US</dc:language>
  <cp:lastModifiedBy>太谷中学</cp:lastModifiedBy>
  <dcterms:modified xsi:type="dcterms:W3CDTF">2005-12-19T12:01:01Z</dcterms:modified>
  <cp:revision>22</cp:revision>
  <dc:subject/>
  <dc:title>How to deal with the writing？</dc:title>
</cp:coreProperties>
</file>